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506-727F-4C3B-A4A3-738744B1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447-9B94-45F5-8D16-2CED90D2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6F46-6B3A-4BB4-A49B-A1541DE1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164-0DCD-46B3-A884-F591ED56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1BDE-4B74-4130-A8B9-0D073999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6C2-F17F-44F9-A63E-84088897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7BE-E164-4944-8D62-14EB8210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B567-A918-4E25-B4E6-C236F34E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E6C-8920-44DC-B55E-2D83422E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8BD-7888-4E17-9756-2B440AFC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5D79-B34A-4B63-A73E-AE73A4E7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84F-A985-46EE-B112-9D0C479D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84B2-3F17-4D44-9841-097EF1F9443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ikiamdb\src\res\ikiamdb_base.png"/>
          <p:cNvPicPr/>
          <p:nvPr/>
        </p:nvPicPr>
        <p:blipFill>
          <a:blip r:embed="rId1"/>
          <a:stretch/>
        </p:blipFill>
        <p:spPr>
          <a:xfrm>
            <a:off x="2090880" y="1596960"/>
            <a:ext cx="4502160" cy="968400"/>
          </a:xfrm>
          <a:prstGeom prst="rect">
            <a:avLst/>
          </a:prstGeom>
          <a:ln w="0">
            <a:noFill/>
          </a:ln>
        </p:spPr>
      </p:pic>
      <p:sp>
        <p:nvSpPr>
          <p:cNvPr id="42" name="QuadreDeText 3"/>
          <p:cNvSpPr/>
          <p:nvPr/>
        </p:nvSpPr>
        <p:spPr>
          <a:xfrm>
            <a:off x="1258920" y="3284640"/>
            <a:ext cx="662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5400" spc="-1" strike="noStrike">
                <a:solidFill>
                  <a:srgbClr val="000000"/>
                </a:solidFill>
                <a:latin typeface="Calibri"/>
                <a:ea typeface="Arial"/>
              </a:rPr>
              <a:t>guía para poner las notas en 12 clic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8775720" cy="5543640"/>
          </a:xfrm>
          <a:prstGeom prst="rect">
            <a:avLst/>
          </a:prstGeom>
          <a:ln w="0">
            <a:noFill/>
          </a:ln>
        </p:spPr>
      </p:pic>
      <p:sp>
        <p:nvSpPr>
          <p:cNvPr id="72" name="QuadreDeText 2"/>
          <p:cNvSpPr/>
          <p:nvPr/>
        </p:nvSpPr>
        <p:spPr>
          <a:xfrm>
            <a:off x="216000" y="628020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Calibri"/>
                <a:ea typeface="Arial"/>
              </a:rPr>
              <a:t>11. Subimos las notas, flecha verde arri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etxa cap avall 3"/>
          <p:cNvSpPr/>
          <p:nvPr/>
        </p:nvSpPr>
        <p:spPr>
          <a:xfrm rot="14179200">
            <a:off x="5961240" y="4753440"/>
            <a:ext cx="647640" cy="202392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388360" cy="5325840"/>
          </a:xfrm>
          <a:prstGeom prst="rect">
            <a:avLst/>
          </a:prstGeom>
          <a:ln w="0">
            <a:noFill/>
          </a:ln>
        </p:spPr>
      </p:pic>
      <p:sp>
        <p:nvSpPr>
          <p:cNvPr id="75" name="QuadreDeText 3"/>
          <p:cNvSpPr/>
          <p:nvPr/>
        </p:nvSpPr>
        <p:spPr>
          <a:xfrm>
            <a:off x="1476360" y="5732640"/>
            <a:ext cx="6912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Calibri"/>
                <a:ea typeface="Arial"/>
              </a:rPr>
              <a:t>12. Publicar, a TODOS los ESTUDIANT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Calibri"/>
                <a:ea typeface="Arial"/>
              </a:rPr>
              <a:t>SOLO SE PUEDE HACER UNA VE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letxa cap avall 4"/>
          <p:cNvSpPr/>
          <p:nvPr/>
        </p:nvSpPr>
        <p:spPr>
          <a:xfrm rot="15401400">
            <a:off x="6242760" y="3953160"/>
            <a:ext cx="647640" cy="26020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24000" y="1212840"/>
            <a:ext cx="8459640" cy="4592520"/>
          </a:xfrm>
          <a:prstGeom prst="rect">
            <a:avLst/>
          </a:prstGeom>
          <a:ln w="0">
            <a:noFill/>
          </a:ln>
        </p:spPr>
      </p:pic>
      <p:sp>
        <p:nvSpPr>
          <p:cNvPr id="44" name="Fletxa cap avall 3"/>
          <p:cNvSpPr/>
          <p:nvPr/>
        </p:nvSpPr>
        <p:spPr>
          <a:xfrm rot="18931200">
            <a:off x="2470320" y="620280"/>
            <a:ext cx="647640" cy="31035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QuadreDeText 4"/>
          <p:cNvSpPr/>
          <p:nvPr/>
        </p:nvSpPr>
        <p:spPr>
          <a:xfrm>
            <a:off x="350640" y="66204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Calibri"/>
                <a:ea typeface="Arial"/>
              </a:rPr>
              <a:t>1. clicar en calific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09520" y="876240"/>
            <a:ext cx="8724960" cy="5105520"/>
          </a:xfrm>
          <a:prstGeom prst="rect">
            <a:avLst/>
          </a:prstGeom>
          <a:ln w="0">
            <a:noFill/>
          </a:ln>
        </p:spPr>
      </p:pic>
      <p:sp>
        <p:nvSpPr>
          <p:cNvPr id="47" name="Fletxa cap avall 4"/>
          <p:cNvSpPr/>
          <p:nvPr/>
        </p:nvSpPr>
        <p:spPr>
          <a:xfrm rot="18931200">
            <a:off x="3982680" y="258480"/>
            <a:ext cx="647640" cy="310500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QuadreDeText 5"/>
          <p:cNvSpPr/>
          <p:nvPr/>
        </p:nvSpPr>
        <p:spPr>
          <a:xfrm>
            <a:off x="1989000" y="27936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Calibri"/>
                <a:ea typeface="Arial"/>
              </a:rPr>
              <a:t>2. Introducir peso, y darle a &lt;INTRO&gt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letxa cap avall 6"/>
          <p:cNvSpPr/>
          <p:nvPr/>
        </p:nvSpPr>
        <p:spPr>
          <a:xfrm rot="15337200">
            <a:off x="5975280" y="4160160"/>
            <a:ext cx="649080" cy="31035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QuadreDeText 7"/>
          <p:cNvSpPr/>
          <p:nvPr/>
        </p:nvSpPr>
        <p:spPr>
          <a:xfrm>
            <a:off x="3532320" y="618156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Calibri"/>
                <a:ea typeface="Arial"/>
              </a:rPr>
              <a:t>3. Acep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972560" cy="5184720"/>
          </a:xfrm>
          <a:prstGeom prst="rect">
            <a:avLst/>
          </a:prstGeom>
          <a:ln w="0">
            <a:noFill/>
          </a:ln>
        </p:spPr>
      </p:pic>
      <p:sp>
        <p:nvSpPr>
          <p:cNvPr id="52" name="Fletxa cap avall 4"/>
          <p:cNvSpPr/>
          <p:nvPr/>
        </p:nvSpPr>
        <p:spPr>
          <a:xfrm rot="15337200">
            <a:off x="4679640" y="4232160"/>
            <a:ext cx="648000" cy="31050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QuadreDeText 5"/>
          <p:cNvSpPr/>
          <p:nvPr/>
        </p:nvSpPr>
        <p:spPr>
          <a:xfrm>
            <a:off x="1917360" y="614844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Calibri"/>
                <a:ea typeface="Arial"/>
              </a:rPr>
              <a:t>4. Bajar cs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76440" y="115920"/>
            <a:ext cx="5991120" cy="5772240"/>
          </a:xfrm>
          <a:prstGeom prst="rect">
            <a:avLst/>
          </a:prstGeom>
          <a:ln w="0">
            <a:noFill/>
          </a:ln>
        </p:spPr>
      </p:pic>
      <p:sp>
        <p:nvSpPr>
          <p:cNvPr id="55" name="QuadreDeText 4"/>
          <p:cNvSpPr/>
          <p:nvPr/>
        </p:nvSpPr>
        <p:spPr>
          <a:xfrm>
            <a:off x="4901040" y="2913120"/>
            <a:ext cx="363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Calibri"/>
                <a:ea typeface="Arial"/>
              </a:rPr>
              <a:t>5. Asegurarse de rellenar 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Calibri"/>
                <a:ea typeface="Arial"/>
              </a:rPr>
              <a:t>columna “not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letxa cap avall 5"/>
          <p:cNvSpPr/>
          <p:nvPr/>
        </p:nvSpPr>
        <p:spPr>
          <a:xfrm rot="4071600">
            <a:off x="4564800" y="1721520"/>
            <a:ext cx="647640" cy="182088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801800" y="954000"/>
            <a:ext cx="7191360" cy="5762880"/>
          </a:xfrm>
          <a:prstGeom prst="rect">
            <a:avLst/>
          </a:prstGeom>
          <a:ln w="0">
            <a:noFill/>
          </a:ln>
        </p:spPr>
      </p:pic>
      <p:sp>
        <p:nvSpPr>
          <p:cNvPr id="58" name="Fletxa cap avall 6"/>
          <p:cNvSpPr/>
          <p:nvPr/>
        </p:nvSpPr>
        <p:spPr>
          <a:xfrm rot="17026200">
            <a:off x="7319880" y="-28800"/>
            <a:ext cx="647640" cy="18194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letxa cap avall 7"/>
          <p:cNvSpPr/>
          <p:nvPr/>
        </p:nvSpPr>
        <p:spPr>
          <a:xfrm rot="7534800">
            <a:off x="6314040" y="4123440"/>
            <a:ext cx="647640" cy="182088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QuadreDeText 8"/>
          <p:cNvSpPr/>
          <p:nvPr/>
        </p:nvSpPr>
        <p:spPr>
          <a:xfrm>
            <a:off x="5965920" y="5630760"/>
            <a:ext cx="3070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Calibri"/>
                <a:ea typeface="Arial"/>
              </a:rPr>
              <a:t>7.  Salvar los cambio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QuadreDeText 5"/>
          <p:cNvSpPr/>
          <p:nvPr/>
        </p:nvSpPr>
        <p:spPr>
          <a:xfrm>
            <a:off x="250920" y="11592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Calibri"/>
                <a:ea typeface="Arial"/>
              </a:rPr>
              <a:t>6. Cerrar el excel después de haber puesto las not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162080" y="0"/>
            <a:ext cx="7981920" cy="6029280"/>
          </a:xfrm>
          <a:prstGeom prst="rect">
            <a:avLst/>
          </a:prstGeom>
          <a:ln w="0">
            <a:noFill/>
          </a:ln>
        </p:spPr>
      </p:pic>
      <p:sp>
        <p:nvSpPr>
          <p:cNvPr id="63" name="Fletxa cap avall 4"/>
          <p:cNvSpPr/>
          <p:nvPr/>
        </p:nvSpPr>
        <p:spPr>
          <a:xfrm rot="13153200">
            <a:off x="4901760" y="4150440"/>
            <a:ext cx="647640" cy="236412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QuadreDeText 5"/>
          <p:cNvSpPr/>
          <p:nvPr/>
        </p:nvSpPr>
        <p:spPr>
          <a:xfrm>
            <a:off x="1476360" y="620712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Calibri"/>
                <a:ea typeface="Arial"/>
              </a:rPr>
              <a:t>8. Lo guardamos donde está (en C:\ikiamdb\temp\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255680" y="-27000"/>
            <a:ext cx="7924680" cy="5915160"/>
          </a:xfrm>
          <a:prstGeom prst="rect">
            <a:avLst/>
          </a:prstGeom>
          <a:ln w="0">
            <a:noFill/>
          </a:ln>
        </p:spPr>
      </p:pic>
      <p:sp>
        <p:nvSpPr>
          <p:cNvPr id="66" name="Fletxa cap avall 4"/>
          <p:cNvSpPr/>
          <p:nvPr/>
        </p:nvSpPr>
        <p:spPr>
          <a:xfrm rot="13153200">
            <a:off x="5015880" y="3063600"/>
            <a:ext cx="647640" cy="314640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QuadreDeText 5"/>
          <p:cNvSpPr/>
          <p:nvPr/>
        </p:nvSpPr>
        <p:spPr>
          <a:xfrm>
            <a:off x="0" y="5805360"/>
            <a:ext cx="1098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Calibri"/>
                <a:ea typeface="Arial"/>
              </a:rPr>
              <a:t>9. Excel pide confirmar sobreescritura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Calibri"/>
                <a:ea typeface="Arial"/>
              </a:rPr>
              <a:t>CLICAMOS EN SI, </a:t>
            </a:r>
            <a:r>
              <a:rPr b="1" lang="ca-ES" sz="2000" spc="-1" strike="noStrike">
                <a:solidFill>
                  <a:srgbClr val="ff0000"/>
                </a:solidFill>
                <a:latin typeface="Calibri"/>
                <a:ea typeface="Arial"/>
              </a:rPr>
              <a:t>CONTRAVINIENDO</a:t>
            </a:r>
            <a:r>
              <a:rPr b="1" lang="ca-ES" sz="2800" spc="-1" strike="noStrike">
                <a:solidFill>
                  <a:srgbClr val="ff0000"/>
                </a:solidFill>
                <a:latin typeface="Calibri"/>
                <a:ea typeface="Arial"/>
              </a:rPr>
              <a:t> LA PROPUESTA POR DEFECTO</a:t>
            </a:r>
            <a:r>
              <a:rPr b="1" lang="ca-E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010800" cy="4759560"/>
          </a:xfrm>
          <a:prstGeom prst="rect">
            <a:avLst/>
          </a:prstGeom>
          <a:ln w="0">
            <a:noFill/>
          </a:ln>
        </p:spPr>
      </p:pic>
      <p:sp>
        <p:nvSpPr>
          <p:cNvPr id="69" name="QuadreDeText 2"/>
          <p:cNvSpPr/>
          <p:nvPr/>
        </p:nvSpPr>
        <p:spPr>
          <a:xfrm>
            <a:off x="0" y="580536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0000"/>
                </a:solidFill>
                <a:latin typeface="Calibri"/>
                <a:ea typeface="Arial"/>
              </a:rPr>
              <a:t>10. Bug de Excel debido a trabajar con CSVs. Clicamos en s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letxa cap avall 3"/>
          <p:cNvSpPr/>
          <p:nvPr/>
        </p:nvSpPr>
        <p:spPr>
          <a:xfrm rot="13153200">
            <a:off x="2756880" y="2952360"/>
            <a:ext cx="647640" cy="314640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3T22:14:15Z</dcterms:created>
  <dc:creator>carles franquesa</dc:creator>
  <dc:description/>
  <dc:language>en-US</dc:language>
  <cp:lastModifiedBy>carles franquesa</cp:lastModifiedBy>
  <dcterms:modified xsi:type="dcterms:W3CDTF">2018-08-03T01:21:42Z</dcterms:modified>
  <cp:revision>7</cp:revision>
  <dc:subject/>
  <dc:title>Presentació del PowerPoint</dc:title>
</cp:coreProperties>
</file>